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8CB54-916C-4CF7-A5BF-1271DE16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9C838-EDA9-4296-8493-42F7D759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BC2B0-759C-4716-93B4-FF463258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E98F9-CE42-469C-B281-EE4B3008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7045-203C-42F6-8C83-1E08A3BA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B61E-5433-43C4-BC75-4A9A857D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53C4-8672-4A16-AAAE-76C95DD8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C327-5DD0-4873-BA92-32C5AA8A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AA58-0F0A-4ABD-BF70-966FFFFE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7D6B-C638-4CFD-B3D3-3AEA9D85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96C2-B113-47FE-944A-E290E519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32439-55DA-4B97-AB7F-55D55E3C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E4A8-FFE6-44AC-A436-E7FBDA64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4A15-483B-4099-905C-BF1DB13E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0E11-8D23-4949-A913-DA6DD2DC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C9CE-64AD-449B-AB58-F0802756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BB08-CDD3-4EFF-A71B-8ED41B93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41ED9-1816-483C-9786-A78C0993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6E654-4240-48CD-BA47-8F9E26BC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E88D5-F16B-4963-9D7F-B0CC895E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9D1EA-72ED-4232-A172-7E5D8EFD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EAF6C-CFA6-432C-A691-82F06E6E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F8B57-D74F-40D9-AE9B-71CC3ECF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CD99E-8D0D-426F-9232-CA09C70D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7D5E-40DA-4FEC-AEBA-1E9EDAD4E6E9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E028-C6AC-4E17-A128-E4DEB1C74DE5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252360" y="606240"/>
            <a:ext cx="9577440" cy="54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Garamond"/>
              </a:rPr>
              <a:t>290 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bg-BG" sz="3000" spc="-1" strike="noStrike">
                <a:solidFill>
                  <a:srgbClr val="ffffff"/>
                </a:solidFill>
                <a:latin typeface="Garamond"/>
              </a:rPr>
              <a:t>46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О, Ти Любов предвечна и безкрайна, смирено молим се пред Твоя трон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На тези двама дай любов Ти трай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и ги свържи по светии Твой закон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541440" y="174744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2. О, Ти Любов велика, съвършен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на тези двама вяра в Тебе да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и прошепни им тайната свещен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що в щастие ще ги държи докрай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252360" y="993600"/>
            <a:ext cx="957744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3. Ти дай им радост, що цери скръб тежка, и мир във час тревожен и злочест;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всек' ден Ти давай им надежда тиха, радвай ги с Твойта вечно нова вест!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252360" y="992160"/>
            <a:ext cx="957744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4. О, чуй ни, Боже! Ти Си благ и мощен! Ти милваш, Отче, с милости безкрай!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И днес таз двойка с Духа Твой предвечен свържи и Твойта благодат им дай!</a:t>
            </a:r>
            <a:r>
              <a:rPr b="0" lang="bg-BG" sz="3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123</cp:lastModifiedBy>
  <dcterms:modified xsi:type="dcterms:W3CDTF">2005-10-22T16:19:15Z</dcterms:modified>
  <cp:revision>223</cp:revision>
  <dc:subject/>
  <dc:title>Slide 1</dc:title>
</cp:coreProperties>
</file>